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94E-F1E3-421C-8022-5A15852F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DF5-3D65-424E-A7C3-B90CEA4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544-91AC-4401-91CC-445AE38B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E76-11CB-4684-8D11-5EE02876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F39-2E9A-4163-AFED-A7E57F0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0BE-CBD7-4C0B-BB8C-01472667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225-4F00-40DF-951E-F4D807ED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F2B-AA1F-4A65-9E0A-6595349B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30C-7F3E-4F53-8F68-AB095E79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F60-491D-496C-87A6-825E6050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0FB-485D-477C-BC50-7203B51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3A0-FD95-4904-8739-E2968B05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F683-89D2-4F30-9B5F-BC99AA3A2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00"/>
                </a:solidFill>
                <a:latin typeface="Brush Script MT"/>
              </a:rPr>
              <a:t>Cornerstone High School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Eras Demi ITC"/>
                <a:ea typeface="Lucida Sans Unicode"/>
              </a:rPr>
              <a:t>Ms. Susheila B. Palatt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  <a:ea typeface="Lucida Sans Unicode"/>
              </a:rPr>
              <a:t>Third year, Chemistry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June 2011 – Marc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newsflash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8" descr="Picture1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685800" y="1522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Welcome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	</a:t>
            </a: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Eras Demi ITC"/>
              </a:rPr>
              <a:t>Chemistry Clas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  <p:sndAc>
      <p:stSnd>
        <p:snd r:embed="rId2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The Structure of Matt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8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Molecules and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 Chemical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ory of Atom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6" descr="Picture1.jpg"/>
          <p:cNvPicPr/>
          <p:nvPr/>
        </p:nvPicPr>
        <p:blipFill>
          <a:blip r:embed="rId1"/>
          <a:stretch/>
        </p:blipFill>
        <p:spPr>
          <a:xfrm>
            <a:off x="4513320" y="2319480"/>
            <a:ext cx="4173480" cy="3852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rd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Important Elements &amp;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their compoun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051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Sodium and Potass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 Hal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able of Common Sa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6" descr="chem2.jpeg"/>
          <p:cNvPicPr/>
          <p:nvPr/>
        </p:nvPicPr>
        <p:blipFill>
          <a:blip r:embed="rId1"/>
          <a:stretch/>
        </p:blipFill>
        <p:spPr>
          <a:xfrm>
            <a:off x="4648320" y="2057400"/>
            <a:ext cx="3886200" cy="3741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u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Metals &amp; their compoun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120" y="190512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Zin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Gold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picture 6.jpg"/>
          <p:cNvPicPr/>
          <p:nvPr/>
        </p:nvPicPr>
        <p:blipFill>
          <a:blip r:embed="rId1"/>
          <a:stretch/>
        </p:blipFill>
        <p:spPr>
          <a:xfrm>
            <a:off x="4419720" y="19810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10" descr="picture4.jpg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rush Script MT"/>
              </a:rPr>
              <a:t>The Importance of Chemist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057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Composition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The Basis of Chemi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Eras Demi ITC"/>
              </a:rPr>
              <a:t>Applications of Chemi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wipe dir="r"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Chemistry quote: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"Remember, if you're not part of the solution, you're part of the precipitate!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Enjoy learning Chemistry and always be part of the solution! :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God bless us al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dissolve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8:45Z</dcterms:created>
  <dc:creator>janarguitar</dc:creator>
  <dc:description/>
  <dc:language>en-US</dc:language>
  <cp:lastModifiedBy>User </cp:lastModifiedBy>
  <dcterms:modified xsi:type="dcterms:W3CDTF">2011-10-03T18:55:47Z</dcterms:modified>
  <cp:revision>22</cp:revision>
  <dc:subject/>
  <dc:title>Corner Stone High School</dc:title>
</cp:coreProperties>
</file>